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850-465B-4C6E-BAEE-69859D7B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427-527D-4AEB-9422-1B95FE54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861-143A-4E93-9A6A-C9BE387A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484-2679-428C-923D-C383D2DC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92C2-BF4D-4065-B7A5-A6665FEB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1F8D-1A8D-4337-8E4B-4338F562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A61A-77EF-4193-9C9A-DA70438B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5BB8-5266-44F1-8477-1EBCBDAE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8C58-BA7F-410C-B3CC-5CE2B50B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5F32-9485-4EA5-BBAA-35D920D0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AD72-4EB4-40EC-8D64-F4A867D2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4E7-91FE-425D-B10F-588063A5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491A-543C-4F0A-9195-2F8C67F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FCCB-651B-4E43-BF4C-682BDCA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B102-FED1-4E26-B036-D0233402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CB15-BA63-4180-8D2B-806E065D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95A6-15F1-480F-87DC-28DED2D1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3B27-8FDA-42C5-A1A7-C4AD62DC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69C5-D89D-4D7E-BDA9-545EF6AC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3508-6E3C-4FB6-9666-4D3B0BA4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53D7-5B25-43A2-9FA2-A916508B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ED04C-0B35-40EB-9EF0-54A46FCF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9B1-7D7A-4B05-8CE1-5D1366D6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DAE0-5295-4768-BA57-992E3520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F42EA-45D3-45FC-89A2-20D495A1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DF4E0-ADAC-40A6-83FA-3AEAA4B5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22B5-AA7A-4BEE-815E-8EA07B47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1B02-F597-4701-AD7D-B312DEF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61FD-1535-4E00-894F-C3C4663A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B3BA-E778-4B79-B1EC-9EF02210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02D40-57A1-46D2-8234-1A5EF3D6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C508F-4463-411C-9610-71A20C6A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B43D1-3456-48B9-AF70-D7B11604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4E3-67D2-4990-992E-BCAD5C0A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CE020-F7E4-42E1-8D72-D9A1B35A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758A4-82F2-4C6D-9BB6-97A9390F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9D948-618C-40CE-A3EE-3F05B972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B553D-9CAC-4EF8-A973-824B2E3F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EE98C-67A9-47A4-B6F7-3FACE66D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82225-9B31-46E8-85F0-C1C490E8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F63B6-DCC5-4E49-8C6E-078AF9CD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87622-4BBF-4933-95E5-BAD1E075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0D283-513D-445A-83D0-A4E2EA61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2A3E6-6572-4DB3-81B8-1C08BCEC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28D-F8E5-4590-B9C6-6900932B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5A123-3703-4225-A2C7-CCFCD3C4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BC48-9563-4E36-9F47-9EAFFDA7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78CBA-5163-46E1-A0C5-FCA9B3D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18161-D6E2-45BA-992B-EBBB0FD8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EF2B0-1289-49A5-9441-FD915900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BD07E-E531-4F30-9DB0-024C8F15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AC781-B8EA-43F0-A08C-7E4AAC8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27C48-716E-4898-9F26-1D570F57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3B769-D3F3-44A9-A9D8-49ADE0F3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1D3F7-B364-41F7-86AD-17ED221D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A5D-154F-4026-8360-E875F267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55791-03D1-4875-A9DC-F5E9F3AD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C393E-C4BF-41DB-A8C7-856CF791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132A4-0392-4174-9F6F-51E228C2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A3E69-D4E9-4A33-A138-67934ABD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E9356-E02C-46FB-ACA3-F4220C3C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F270B-CF4E-4062-80A6-BED3DCFC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2DEE-4007-4751-9118-2E0F6B82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7EE65-EE1B-48FF-B18A-EC016442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9D266-3639-4881-9A33-E15430AC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C0C5C-EABC-4980-96C6-54B7EB69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928-CCD7-4952-A653-15B407CC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6B851-ABE1-4391-A5EC-7904145C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2FAEE-CF9C-4E9E-A5C6-3E61CF9C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220B-2EA9-4482-8B9A-6C10DD36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4760-1EF7-4056-B46D-5F9BBD47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C82E2-A752-4AFB-A644-31D740F5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9DA04-0DD3-479F-B54F-C8E3053C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F195C-581F-4C48-B64E-8C4F2B9D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0B79B-C7A3-4450-9214-8CDECB56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E8BEF-B56B-4ED1-B387-89065964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C92F9-21DE-469F-A88C-907E8BF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C13-ADBD-459B-A6E2-4304B39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03163-B9C1-4190-8D8B-4BDF1D8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3B8D5-3A9F-4C2A-BF96-C458CBAC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13928-550C-4D3F-A33D-E424D29E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27F91-DAB2-441B-9516-E9605EAD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D1E1F-5F65-4CC8-9B0A-67C51667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708AB-7E09-4537-8C40-5A293F9D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CA683-DDAF-4303-AA86-C74A7C71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9273E-7AC7-48AA-A4E3-08F5A103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CEABF-2F89-49AC-84B6-ABE3A1CE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CE28E-E3DD-4406-9BDE-79473CEA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B23-3EE4-49F9-BFEF-8BD502F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D54D7-42B0-40DC-B75B-93386967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AABA3-8C4A-416B-90C5-A6227A74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35F2C-8CFA-4A65-A2C3-619849F3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DC53B-73F2-4175-929F-71882873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27634-CC79-4B6F-84A3-D3CE4D62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64C3F-9F15-4F75-A169-8CD3E2F8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41867-7D6E-4548-A228-88914039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5B76-FAAE-4C8C-9D39-6D013A97A9A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FD7D-BCCD-49D1-A7B1-015F8AB99005}" type="slidenum">
              <a:rPr b="0" lang="en-CA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253F-E1EC-43F8-A2FF-94A1746A08C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9396-DFD3-49C0-8527-FEFD85563AEE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0BB3-4282-49C6-808F-AFF01CE589F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72FF-D2FA-4145-B53A-2BB6E07F47D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E99B-C83E-4623-AD34-5E398408C111}" type="slidenum"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EF3-CD63-4CEB-A4AD-E9F2E84B8313}" type="slidenum">
              <a:rPr b="0" lang="en-CA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682560" y="66600"/>
            <a:ext cx="8175600" cy="18846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6335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Demographers John Bongaarts and Robert Potter studied the </a:t>
            </a:r>
            <a:r>
              <a:rPr b="1" lang="en-CA" sz="3000" spc="-1" strike="noStrike">
                <a:solidFill>
                  <a:srgbClr val="ffffff"/>
                </a:solidFill>
                <a:latin typeface="Century Gothic"/>
              </a:rPr>
              <a:t>proximate determinants of fertil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iological, and behavioural factors through which social, economic and environmental variables affect fertil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What they found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Women on average bear two childr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1187280" y="3193920"/>
            <a:ext cx="70232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Generally married in their 20’s and the first child comes two years la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 second child was spaced approximately two to three years apar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             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                           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s used to delay the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econd concep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                           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used to avoid further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irth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1187280" y="2852640"/>
            <a:ext cx="2857680" cy="2089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1262160" y="5005440"/>
            <a:ext cx="26701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ir work concluded that norms are affected by age at marriage, frequency of intercourse, age of first menstruation, use and effectiveness of contracept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Many women in Canada only get 6-8 weeks of maternity leav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Mothers return to work when infants are quite young and usually stop breast feed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Many studies show that infants benefit greatly from breast milk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t’s the only food that i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Loaded with the nutrien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at infants ne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mmunizes infants agains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many diseas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5810400" y="2205000"/>
            <a:ext cx="3333600" cy="2592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3"/>
          <a:stretch/>
        </p:blipFill>
        <p:spPr>
          <a:xfrm>
            <a:off x="5810400" y="4741920"/>
            <a:ext cx="33336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mproved digestion 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Optimal growth of th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nfants body syst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5415120" y="1844640"/>
            <a:ext cx="3267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reast feeding rates are higher among older mothers and those with higher education and income level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One of the most common reasons for women to stop breastfeeding is that they had to return to 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rends from Developed N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rends from Developing N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irth Ra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How does breast feeding affect Fecundit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When breast feeding is done on demand, and no supplementary food is given, nursing has a contraceptive effect on the wom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reast feeding results in the release of </a:t>
            </a:r>
            <a:r>
              <a:rPr b="1" lang="en-CA" sz="3000" spc="-1" strike="noStrike">
                <a:solidFill>
                  <a:srgbClr val="ffffff"/>
                </a:solidFill>
                <a:latin typeface="Century Gothic"/>
              </a:rPr>
              <a:t>prolactin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Prolactin- a hormone that regulates the production of progesterone and inhibits ovulat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First menstrual peri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Developing and Developed Countri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Earlier Marriages, longer fertility yea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Anthropologists have found cultural norms related to fertility are not only shaped by parents but also by government policies and program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y can impose policies and programs to increase or decrease birth ra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EX Russ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Low birth rat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Debating banning abortions and imposing a childlessness ta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Chin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High birth rat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One couple one child polic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exual Education in school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Easier access to contraceptiv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A couple is considered to be infertile when they have been trying to conceive for over one year without succe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Estimated that in Canada 1 in 5 couples are inferti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re seems to be a host of physical and environmental factors linked to infertil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One of these is the rapid spread of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6408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n particular chlamydia which is a symptomless condition which often results in the blockage of the female’s fallopian tub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Another factor i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8207280" cy="4476600"/>
          </a:xfrm>
          <a:prstGeom prst="rect">
            <a:avLst/>
          </a:prstGeom>
          <a:ln w="0">
            <a:noFill/>
          </a:ln>
        </p:spPr>
      </p:pic>
      <p:pic>
        <p:nvPicPr>
          <p:cNvPr id="360" name="Rectangle 3" descr=""/>
          <p:cNvPicPr/>
          <p:nvPr/>
        </p:nvPicPr>
        <p:blipFill>
          <a:blip r:embed="rId4"/>
          <a:stretch/>
        </p:blipFill>
        <p:spPr>
          <a:xfrm>
            <a:off x="109440" y="1725480"/>
            <a:ext cx="67420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 drop in sperm counts has been linked to high levels of estrogen, i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247920"/>
          </a:xfrm>
          <a:prstGeom prst="rect">
            <a:avLst/>
          </a:prstGeom>
          <a:ln w="0">
            <a:noFill/>
          </a:ln>
        </p:spPr>
      </p:pic>
      <p:pic>
        <p:nvPicPr>
          <p:cNvPr id="364" name="Rectangle 3" descr=""/>
          <p:cNvPicPr/>
          <p:nvPr/>
        </p:nvPicPr>
        <p:blipFill>
          <a:blip r:embed="rId3"/>
          <a:stretch/>
        </p:blipFill>
        <p:spPr>
          <a:xfrm>
            <a:off x="-384120" y="3224160"/>
            <a:ext cx="59626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High levels of estrogen are believed to be due to small amounts of women’s oral contraceptives finding their way into the water syst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y products of the chemicals also found in some food packaging and plast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Also a growing trend for women to delay motherhood until they get their careers establish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More than a third of all babies born in Canada are born to women in their thirti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32:45Z</dcterms:created>
  <dc:creator>Jason</dc:creator>
  <dc:description/>
  <dc:language>en-US</dc:language>
  <cp:lastModifiedBy>Jason</cp:lastModifiedBy>
  <dcterms:modified xsi:type="dcterms:W3CDTF">2011-01-04T14:33:23Z</dcterms:modified>
  <cp:revision>11</cp:revision>
  <dc:subject/>
  <dc:title>6.2 Relationship Between Fecundity and Culture</dc:title>
</cp:coreProperties>
</file>